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102-E362-48DB-8C42-22F7092E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37F-B312-4E37-958B-A4A0451F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029-F78F-49A5-9FB1-18C4017C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046-B83A-49D0-B402-37A03337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1FA-4B04-43C2-989F-BCCBF905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DC2-3821-4166-AA5F-330EC96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561-2BFF-4289-AB09-D4788AC6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B62-8B7E-4E01-8A80-837FCFD6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6C0-3F95-40EE-8406-8D69B077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720-E35C-4956-B77A-CBA0FA0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6A3-786D-44D2-AD2E-90419C1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C51-8BEE-4597-AD7A-21E47AE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DC98-2CF9-49EB-A6DC-3086C130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, Ben, and T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: Pyre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Land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has many landforms inclu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 seas, 8 mountains ranges, 6 rivers, 6 sets of islands, the Baikal lake, and the Kanchatka Pennins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Russian Seas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 seas are plentiful but not the fish within them. Only 2 of the 12 seas supply well f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was drying up when Russia still had control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khotsk and Sea of Japan are the only seas that border Russia with goo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280" y="-2087640"/>
            <a:ext cx="16583040" cy="894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R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d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0303"/>
                </a:solidFill>
                <a:latin typeface="Arial"/>
              </a:rPr>
              <a:t>There are many mountains ranges such as Ural, Tanna Ola, Sayan, Yabonovyy, Stanover, Cherskiy, Kolym, and Cauca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d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0303"/>
                </a:solidFill>
                <a:latin typeface="Arial"/>
              </a:rPr>
              <a:t>These mountains make travel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600200" y="8915400"/>
            <a:ext cx="16583040" cy="79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use in using rivers for hydroelectric power, trading or transpor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vers in Russia are the Volga, Irliysh, Ob, Lena, Kenisey, and Am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ngest river in Russia is the Vol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296280" cy="7238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islands in Russia are the The Fronz Josef 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ke Baik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2:23:09Z</dcterms:created>
  <dc:creator> </dc:creator>
  <dc:description/>
  <dc:language>en-US</dc:language>
  <cp:lastModifiedBy> </cp:lastModifiedBy>
  <dcterms:modified xsi:type="dcterms:W3CDTF">2010-12-15T22:55:25Z</dcterms:modified>
  <cp:revision>3</cp:revision>
  <dc:subject/>
  <dc:title>Russian Land</dc:title>
</cp:coreProperties>
</file>